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2C5-B791-497B-B24F-F97CC901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6C4-FBFA-4CB9-94EB-6CD0AF89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01BA2-E814-496F-9DD7-66A1C1E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2D5FE-88C5-4151-8A4B-0FF191DF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43FAB-4300-4370-BA69-89C00782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8AF42-69BC-4215-A48A-EE0A8416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59EA5-D426-4970-AFD2-E8B6E2F7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718F7-3B8D-4AC3-A7C1-3ADCA35B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62B36-44F8-4EF4-993D-457C2A34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99C57-D178-4858-89FC-FA19AD3F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50A0E-5F61-47FB-B7A8-3A506F6C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11F96-F3C0-4928-B3A1-998EA15C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D17-E53B-4CF1-8E08-1EBF51CC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B6F26-1C7A-4517-B2EC-4FC4EE05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5D456-BAAF-418B-8115-67FEB065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DC941-D200-4375-92C8-4B29C6F0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B0695-1336-4023-9E44-ABD01984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B3648-71CC-4DB7-BB1E-A625DC78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1EEC4-4F37-42E0-8434-492847E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3BB36-A650-4782-BC29-1E1631A4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19CFE-5D7E-40B9-ADA7-66CFA94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8620F-D562-4A06-843B-F1CD274A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D5412-3B65-4E2D-B8DD-2386298C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5D8-FAC0-4BD3-8990-AB842949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CB5A0-45C3-44E7-8716-04C7533D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336B7-3587-49C4-83A5-37CE6E27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54005-CADF-4214-8F6E-F17B6F6F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BE304-A9A7-4F3F-96D6-060812C4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917A8-CF1B-4BB9-98A1-79488D27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0F9F0-7832-4FE1-A529-788CDFD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564E8-7B04-41F1-8831-8C4FFDA3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379B0-4679-489D-96B8-6B49DFB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12CAA-44BA-4B8C-9062-F074EAD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83285-7F3F-4EB9-875E-627727B0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6E4A-D5C1-4F9B-93E6-9437AED5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AFAAD-FA12-457E-A9B6-3043A04B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0C78F-2FC9-4DF1-9EB3-D1FF2E9C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92D9B-C887-4E3D-8290-F644AEE6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F91B1-B3CD-4B7A-8977-B147DF61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D8725-DA6C-4F38-AFA5-E2E34D75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05216-4757-4FA4-BE81-6D88978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7C765-F670-4582-98BF-4784A365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DD0D5-98C6-40F9-ADAC-F4F5F373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76C93-3430-44E2-BFB9-1C230884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4CDD1-5904-493C-97F6-B3C72AA7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62C1-1F2B-48ED-92E1-35B0FFD9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F464C-9E19-46CC-AC2B-83D0095B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625C9-BEE7-49D2-9457-ACC7FF98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F95D5-F218-428C-A36E-621A4720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496A4-7ADE-4EC1-9DB9-F4C28E19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071DD-A02C-4982-8148-9FE4F6A2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4FD55-79C5-4F07-B682-DC98A7B2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5220A-E24D-47ED-9E7E-8937B5BB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33A1D-FA26-4152-B302-A2B695A3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8D9BB-4FD1-4A4E-A789-F4BC508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7F0FD-540E-407C-94AE-861EBFC8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988E-67B1-4E19-B5D5-C34DB96B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B3B95-EC21-451F-9BD6-AC65E5D0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8904D-DE85-4F7B-821F-38B7BDD9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5FE09-7D0D-4431-A06A-53E9A4C4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7414F-57A3-434F-B59C-66148DB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2DC18-1F83-42A5-9AF6-27F07A7C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C297D-EDAB-4E9E-B97B-651AE3FE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5A117-A8E1-4F47-BD21-35B108B0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E417F-1F35-43A6-825A-8180013E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674D6-312F-41CD-820F-4BE6C943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AAD44-CA9A-42FF-BF1C-0B69AE3A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0509-A9BD-4BC3-9052-5D049512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5ABA3-A559-45CD-8709-E04A0209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65620-BAD2-4A66-8469-AFD1ECEF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B1FBF-706C-444B-9379-1324E9C1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96647-9E90-468D-914F-5268E346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91414-4CE0-4344-B6D4-91BAE9B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EEA36-330A-4854-8D31-0849F4FA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70849-3318-46B2-8FA8-AFCF5398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618F1-0849-4C2C-AFC2-D9267C2D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3B88D-5054-4C26-9A56-B8E8A283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DF030-0607-41EC-8644-5EB066DB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A81F-EDE4-48FB-86AB-40D58607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50D1F-3CEE-42F2-A710-3AC76FD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032CA-03F8-4CC5-9C68-9F8111F1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A3BE6-5638-4420-9000-D93D9587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A5473-4EA8-42B0-A111-467E38F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F8FEE-6D83-410E-B38D-846AD5A0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E7A51-3D64-4495-B587-27FB284A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A86B0-3A06-420F-B103-3DFBCFB8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8AC93-C057-4C8C-9340-81029DE3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839C4-6A1E-4589-81D3-01505398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82120-0046-41DD-BCF5-830B9836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F39-B215-422F-8AE0-32B71C9D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CBDEF-03C5-4418-AB22-298720C7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C5D25-9B90-4886-A47C-A99CE347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5CD873-065B-4324-B238-1BBEB918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4B646-6214-4A0D-B196-D87213B7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29184-DE57-463D-A3C6-F9552B02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F1929-68BE-4109-9FA5-2F43E480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E639E-2C9F-40C1-881F-B1C905E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366B6-8258-4746-9300-3197555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43502-B6C8-4E0E-8451-42DA7EAF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4621B-5431-4BDC-883A-D1854BC5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6139-15BE-4B29-915F-29D87810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5025D-FC6C-4651-B1F0-61EF79D5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3169F-57DA-441D-BE70-C020843C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001C7-602C-4798-8718-98C039E5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AB8F5-5759-43B2-887A-05104C47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002F3-5F3D-4A2E-B67F-7124C47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3D212-27D5-4075-8AB4-15636C3F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833A7-B86B-49C7-B38F-B3E2AA8C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AAB55A-AB5B-4B93-831A-74BC0CDC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E0E48-189D-4464-A41E-7700FE42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EAFB2-0FB0-475E-9598-86282325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06B-AF56-407D-A5E0-01954662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7E7A-2ACA-4D42-81BF-75123BBD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43B0D-985F-4624-A93E-11F2E97D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D0229-F9F8-481B-A468-0754611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9F486-495F-4E16-9225-BF58AD24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3AB2D-508D-4E5E-B301-A3EAF325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8B25C-9A15-4A47-A5B4-3F71D2FC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73E0A-2BA3-4B39-B6EA-B526B118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1E64F-A2A2-42AC-A2DF-3E21134C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E85F4-B425-4AAC-8AAB-A7FC0709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CF5EE-338F-430C-97EB-40F6AF8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C2F04-497E-4904-BB30-A06C0EF8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6123-2855-4273-84EF-02D401AE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135B6-2F6E-4193-9DA5-A456414F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51C4D-ED97-4B63-AD90-83E4B162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0E4F5-F1A6-4161-A913-055C9CC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2474A-A421-418F-9BB9-842462EC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F6E3C-B9F8-4887-AACF-4960BAA6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131E2-3DF8-4CEF-A32B-B8C865D1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67F53-FF27-4B1A-9956-A22E0892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32519E-CBB4-4C47-AE8D-67BA3F39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67F11-4077-4EFE-ADA7-300A652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D5D0F-3883-4B84-B79E-30BFBE8A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6757-FDF0-4DE1-B2B4-66B0556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9135D-702C-4096-A10A-69174F2F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4F6D3-F870-4E88-9E83-56BFDE81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52788-D9BC-4978-8642-936F0868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1F832-5893-43F4-851F-8701C258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C5FF7-D0F0-426C-9770-A4A75B7F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FD4EA-5319-4DD5-8068-FB9451A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743FA-02F6-45E6-B45A-FF8F4083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AF723-2BF8-4499-9900-E78A4F47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844C4E-3561-4F9F-8269-17C68928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60EC25-0BC2-4523-8C6A-9EBA5E2E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2CF4-12C5-4CAA-9BA5-392D30F2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4E032-6724-4641-8348-26BF78EE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840C8-2933-4DBF-A93E-B6D96567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F34ACF-7210-4D92-951F-3E912BDD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0F10F-A317-461D-9BBB-1D1D0E47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232F4-C902-4137-A00B-5AFC336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925FC-015C-4E43-B532-AFB3AEF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A77E3-6F37-4AA0-848B-544F716F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6309A-DB26-4A84-B8C9-0BCA4B6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A1A1A3-8125-4871-BC3D-1BBD049A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FF1118-086C-424F-B680-E9347A0B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980C-99B6-4687-BDEC-1BF16E4B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F98CF3-F524-4A47-B172-22A64D7E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D37CB1-D5A6-42EC-95D7-CE271BD5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8AF1D-F025-4CA7-B28D-42556E54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D29D29-F4F2-4D48-B82E-F252CD13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13FAD3-5B1C-439A-BBDD-1D351F9C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514FD-24E8-45C1-BAC6-14FAF4C7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AD122-621E-48C2-968D-5ECC1D69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391CB-C802-4199-AEA8-EB34F2E6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3F69CB-5EE9-471F-9CBD-B568F901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A6F19-7E9D-4D72-AAA8-75525BF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7163-C3EB-404A-AC14-2BC8386A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87C51-45FE-481E-B40D-A4449D91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CC2FA-BC3C-4052-ABEC-995FFA17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03D2E8-2BDD-4B50-AE35-7BB9FEAF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6F0A-30F9-458A-96B8-3D0F9413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5CAF-EB5D-4E26-9440-2AFCF48D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81E0-AC0E-4869-80EE-52BBAC78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0528-624A-45B6-BC6A-EE5056CF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477-A569-4425-8321-6AFA1377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E632-40D8-465B-81DB-9A4AE9DB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2B42-10A1-4ADF-8323-72C3C2AE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8199-FCDF-4EAE-8CC0-3E102177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7E53-3393-420F-B552-6A1547F6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2FE6-79A9-467B-83B4-097DFCB9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EA177-D282-4803-A68F-A63E436A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421F-BD17-45F3-989A-9EC53E31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9E466-A9D7-4AFD-A700-2C5BF6B5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EC545-251B-4B8C-807C-229FD5FF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B94A-E3B3-4C8B-835A-8D359AB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14B-B4B5-4512-813A-4186E7AE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5B49-986F-4A37-AC17-CF456FE5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14379-BCC3-459C-9EF0-E833511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3A754-A4B1-44D8-A261-2EE6532B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4CEF-E8D2-449A-9AA1-AA8D42CE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8E42-4D4F-4B33-B55B-C4E0A79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0C079-AA3B-4AAF-9348-EA8245B3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6436-2440-4623-A466-9BFDCFEC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FD9B-E390-4842-8772-E64AA991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E408-3EF4-477C-96EE-48DA1AA1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1898-8A8B-4BF5-A79B-86A9D49A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F51-FD57-4ED8-B117-91BD77D6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0CC72-9F75-451F-8612-D8AC34E6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EC51B-D6E2-4A5E-9288-37BB9873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9DC3-80D8-4B48-8D1C-0A8CC578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FB451-8D9B-4582-A0D2-AD00B276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8837A-02EE-436E-86F8-1B707BC5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9904-93AA-405D-B0A8-A01E86E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6023-DB5F-44CD-9EAC-48138069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D7A53-1CB5-4137-8C20-082589C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EA1DC-03EF-4BD5-9030-72761046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D0A41-EBE2-47FA-844E-568CDDEC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844-0E9D-461F-8BA9-1A0A780F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2BBB7-B49D-4A70-9A52-152CCA87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274F6-E4AF-4235-A5C4-6C98195D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98332-5BBE-4192-BEB9-B32B3DB9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B8DF-1A4F-40D4-A3CC-48C8D34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A097B-2AEC-490A-B5C3-BAE68C1E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1DD56-9F82-488C-9F33-8B31F5EC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AC26-474D-4540-A641-C63F9025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5BBB9-B5A2-4F8D-8877-36782CD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2D66-D45F-44A1-A754-597FBD29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B6B3-D590-4FFE-ADE2-4D3BBE6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A7F-BBC5-4428-9B3A-D1BCD71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1F2D8-3B19-4B0E-BC34-3D0A9708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01127-4629-4404-85A5-B4CFE91E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39742-AE2A-407F-A0D1-36E5B90F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A27B2-D995-4039-A676-2E02BCE1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9B599-891A-4549-A936-EAFFBA47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F1CC-56FE-4588-B363-CD21C43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5CBB9-BD39-4EDB-83B1-86081E46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1D935-64A9-4D7F-B43E-5C00C263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F4334-7543-4B44-8F93-ECE320E1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E17C5-0FBF-46FD-BCCA-6318687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412-7FA5-414A-9A01-757CF95C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A4311-E5D7-4333-A702-DFDAEBCF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9DDD1-EB8C-4F35-827A-5D60C76E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9CBCA-3FD2-4E4A-84AE-18638357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FB4E-18F1-41EA-82DC-9ED7B5DC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A84F3-E4A6-4E70-A908-DEC08E1D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08A45-1029-48C9-8794-424EF909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78136-3C72-4F47-9DC9-659FFE12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AD786-A68B-4A3C-98E8-3B24663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A2B97-8D00-49F8-94B3-D91C4694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D0642-30C3-4895-84ED-5EA00FD0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8DD-1245-41F2-85E7-D9ABDC2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AB47B-5963-4CFA-AD2E-8A31760F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232DD-D3B5-4607-81A6-1B988E41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D3AFC-8080-467A-B1DD-0D73CB9B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E9318-4791-419F-BA50-E1159CB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A2B3C-9DB8-4D8F-9F81-ADD61E2E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BED32-5E4E-474A-948B-50B2E742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DC3E4-88EC-4D33-9728-4CF26448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C1DB4-AB4C-4135-A7EC-94675764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D7A87-1F57-4C50-A3D9-CFEA03C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68280-1E89-4206-981C-46323FFE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D01B-EAA9-4874-86F9-C90BF4718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E75-FE69-48B5-8F09-111F9C0FF9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CD2F-CFD5-4B73-B076-B30F9F9F8C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BE6A-43E3-4BE3-9665-E600EEECF8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6F0C-5039-458B-8B2D-6F15FC26BB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AF39-C3A3-4A06-B1F6-EAC9AC1856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87CA-D148-4F91-98FF-6119F447E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7641-AA3B-47A6-B2D2-EEF7A61906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1161-B354-4E2E-914C-0A41B65A67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2FED-D522-4AFF-A8CA-5E1B6E6D8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2925-3E62-4A25-859A-FDC63BD75A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3AFE-B44F-4A4C-BFAA-2A9D57FEC3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4269-D975-4867-A578-92D935C38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7C19-427B-454F-9846-CDF4BEAD8E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BD7-C1BB-4B9A-9E61-E5E7A444E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5785-61DC-4E56-AFC3-15100E5E9E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4302-CC80-433B-8B42-7BE9020AD6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E27-AC50-48B1-87C5-069C31676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2BC1-48FB-4701-9323-7C0E09BAF4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690D-E271-4BAF-9DE2-F0E531F931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DFD3-871D-433E-A2C1-CDF4BBDC49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DCCA-9A04-4E50-B845-0196ACEA25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DAB9-0D79-4553-848B-20560995E8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3DD5-B832-4715-83F9-044330B16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B67B-3E9C-4A94-B572-544E796F2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94C6-6D91-4BC1-B84E-873A5757E5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CA79-159F-43CC-BAA8-D45451683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C133-DE51-4905-B8F0-ACFEFF8E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AB42-8581-48EE-87E0-8044A0BA6B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AD13-B69B-447D-83E5-5659CF7B75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FF15-13F3-4446-BE03-66C45FF223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7112-B391-4FBD-9D15-1FDCA8DB5B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6FD-EA11-497C-A19C-C6CCA5A37D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1CE7-3845-4743-ADAF-118BA77C4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4CC1-D5F4-40BF-8C14-1206E12F6F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6091-3997-4599-878F-0465E01B48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8D89-9AC0-463A-ADA7-3B0B1490A6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FED3-FF88-4E07-AB8B-7AAE92DED6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B9F1-DEC4-43FD-B61B-F08EC3383A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95D-E152-414D-A54F-54A420BFF5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948040" y="1341360"/>
            <a:ext cx="32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514440" y="2637000"/>
            <a:ext cx="8115120" cy="116172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3" descr=""/>
          <p:cNvPicPr/>
          <p:nvPr/>
        </p:nvPicPr>
        <p:blipFill>
          <a:blip r:embed="rId3"/>
          <a:stretch/>
        </p:blipFill>
        <p:spPr>
          <a:xfrm>
            <a:off x="549360" y="4005360"/>
            <a:ext cx="7191360" cy="96192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4" descr=""/>
          <p:cNvPicPr/>
          <p:nvPr/>
        </p:nvPicPr>
        <p:blipFill>
          <a:blip r:embed="rId4"/>
          <a:stretch/>
        </p:blipFill>
        <p:spPr>
          <a:xfrm>
            <a:off x="2843280" y="5157720"/>
            <a:ext cx="32763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图片 1" descr=""/>
          <p:cNvPicPr/>
          <p:nvPr/>
        </p:nvPicPr>
        <p:blipFill>
          <a:blip r:embed="rId1"/>
          <a:stretch/>
        </p:blipFill>
        <p:spPr>
          <a:xfrm>
            <a:off x="47520" y="1114560"/>
            <a:ext cx="9048960" cy="46288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4932360" y="257976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1979640" y="321300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143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1" name="图片 1" descr=""/>
          <p:cNvPicPr/>
          <p:nvPr/>
        </p:nvPicPr>
        <p:blipFill>
          <a:blip r:embed="rId1"/>
          <a:stretch/>
        </p:blipFill>
        <p:spPr>
          <a:xfrm>
            <a:off x="452520" y="1566720"/>
            <a:ext cx="8237520" cy="37245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3276720" y="2176560"/>
            <a:ext cx="136656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4572000" y="3774960"/>
            <a:ext cx="13669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" descr=""/>
          <p:cNvPicPr/>
          <p:nvPr/>
        </p:nvPicPr>
        <p:blipFill>
          <a:blip r:embed="rId2"/>
          <a:stretch/>
        </p:blipFill>
        <p:spPr>
          <a:xfrm>
            <a:off x="838080" y="1235160"/>
            <a:ext cx="7467840" cy="52099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190800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1908000" y="378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1835280" y="530064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952560" y="1947960"/>
            <a:ext cx="7238880" cy="2962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332000" y="35733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442800" y="1073160"/>
            <a:ext cx="8514000" cy="54291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476360" y="4365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2000" cy="3743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57200" y="831960"/>
            <a:ext cx="8229600" cy="5886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568440" y="974880"/>
            <a:ext cx="8008920" cy="54482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5508720" y="324180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5148360" y="3875040"/>
            <a:ext cx="71892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5867280" y="455148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5364000" y="5186520"/>
            <a:ext cx="792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6"/>
          <a:stretch/>
        </p:blipFill>
        <p:spPr>
          <a:xfrm>
            <a:off x="2124000" y="5862600"/>
            <a:ext cx="1511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42840" y="1135080"/>
            <a:ext cx="8921880" cy="51069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1116000" y="1971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1116000" y="3195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1116000" y="384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1042920" y="443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1042920" y="5084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466560" y="1681200"/>
            <a:ext cx="82108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4:4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